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gif" ContentType="image/gif"/>
  <Override PartName="/ppt/media/image5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526716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6515280"/>
            <a:ext cx="4029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5267160" y="6515280"/>
            <a:ext cx="4029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2C7B-C084-48B2-B77D-CA0CECB5A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267160" y="6515280"/>
            <a:ext cx="4029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5EAD-6F4E-48F2-A214-4C613B29E8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7BC-11ED-4B85-A182-04FEC3F8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915-0303-4C21-B136-B555D6D3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522-10D2-4D39-90B3-C70CBF0C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5D1-41BB-4934-91E8-47ED05C7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951D-F866-4C83-A3B2-3030A66C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E9A1-0750-4545-8D74-42052795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0707-54BD-43FB-BDF4-CAE5F71D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8C5A-CAD5-4311-9A9C-5659A443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56BA-B109-46D2-A12B-FE1F28DB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E2ED-9476-4DA6-8EAE-A0E5DE84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F437-138F-49AB-BBC6-116045CB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627-4E64-4D8C-B402-B93D0CA3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007B-45AF-4140-A3F2-EF3E28D4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9845-508F-49DF-9FE3-720F62B4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9765-D718-4CBB-8EBE-45A5E732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8F2A-E0E2-4786-9545-763CA7C3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DF04-0860-4D33-998D-CEC920CA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0DC-2896-452A-858F-3DEE33E6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350-34A3-4724-A2F3-77F851EB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8C9-EA66-4C16-96ED-578AE148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7D5-96B2-4FD0-AC73-E4700670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D51-CDB2-4C8A-886C-DF75FF72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122-F6F5-4BAA-9A05-5562082A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F89-92C9-4151-8B23-D3B30C36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6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0257-DC74-4739-948E-703E10EF4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6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297D-23E3-4B6E-94B9-51383EE76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DIGESTIVE SYSTEM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pic>
        <p:nvPicPr>
          <p:cNvPr id="136" name="Picture 2053" descr="color"/>
          <p:cNvPicPr/>
          <p:nvPr/>
        </p:nvPicPr>
        <p:blipFill>
          <a:blip r:embed="rId1"/>
          <a:stretch/>
        </p:blipFill>
        <p:spPr>
          <a:xfrm>
            <a:off x="2514600" y="1600200"/>
            <a:ext cx="5029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ARD PALAT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Y STRUCTURE THAT FORMS THE ROOF OF THE M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ERATES THE MOUTH FROM THE NASAL CA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IATAL HERNIA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MACH PROTRUDES THROUGH THE DIAPHRAGM INTO THE CHEST CAVITY THROUGH THE OPENING FOR THE ESOPHAG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TB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ENTION OF THE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ST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SWA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ND 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FREQUENT M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 UP AFTER E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ICAL RE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INGUINAL HERNIA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OF THE SMALL INTESTINE PROTRUDES THROUGH THE INGUINAL RINGS OF THE LOWER ABDOMINAL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HERNIA CANNOT BE REDUCED, OR PUSHED BACK IN PLACE, A HERNIORRHAPY IS D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ERITON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OF THE ABDOMINAL PERITONEAL C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OCCURS WHEN A RUPTURE IN THE INTESTINE ALLOWS FECAL CONTENTS TO ENTER THIS C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PTURED APPENDIX OR GALLBLADDER ARE C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MINAL PAIN AND DIS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&amp;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ICAL RE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ULCER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SORE ON THE LINING OF THE DIGESTIVE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PTIC ULCERS INCLUDE GAASTRIC AND DUODENAL UL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ATEMESIS (BLOODY VOMIT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ENA (DARK,TARRY STOO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ACIDS AND BLAND 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ING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IRRITANTS SUCH AS ALCOHOL, FRIED FOOD, TOBACCO, AND CAFFE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OFT PALAT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BEHIND THE HARD PA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S THE MOUTH FROM THE NASOPHARYN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ULCERATIVE COL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INFLAMMATION OF THE COLON WITH THE FORMATION OF ULCERS AND ABS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T TO BE CAUSED BY STRESS, ALLERGIC REACTIONS TO FOOD, OR AN AUTOIMMUN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RRHEA WITH BLOOD, PUS, AND MU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 LOSS, WEAKNESS, ABDOMINAL PAIN, ANEMIA AND ANORE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S OF REMISSION AND EXACCERBATION ARE COM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ED TOWARD CONTROLLING INFLAM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STRESS WITH MILD SE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PROPER NUTR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SUBSTANCES THAT AGGRAVATE THE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ICAL REMOVAL OF AFFECTED COLON IN SOME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600200" y="762120"/>
          <a:ext cx="6415200" cy="5181480"/>
        </p:xfrm>
        <a:graphic>
          <a:graphicData uri="http://schemas.openxmlformats.org/drawingml/2006/table">
            <a:tbl>
              <a:tblPr/>
              <a:tblGrid>
                <a:gridCol w="2649600"/>
                <a:gridCol w="3765600"/>
              </a:tblGrid>
              <a:tr h="51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-nasal cavity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-lips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-teeth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-aveolar ridg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hard palat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-velum (soft palate)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-uvula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-apex (tip) of tongu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-blade (front) of tongu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-dorsum (back) of tongu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-oral cavity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-pharynx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epiglottis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-larynx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-vocal cords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-trachea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7-esophagu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7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                        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7" descr="organs"/>
          <p:cNvPicPr/>
          <p:nvPr/>
        </p:nvPicPr>
        <p:blipFill>
          <a:blip r:embed="rId1"/>
          <a:stretch/>
        </p:blipFill>
        <p:spPr>
          <a:xfrm>
            <a:off x="4267080" y="685800"/>
            <a:ext cx="449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ALIVARY GLAND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PAIRS OF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OTID, SUBLINGUAL, AND SUBMAND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A LIQUID CALLED SAL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BRICATES THE MOUTH DURING SPEECH AND CHE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ISTENS FOOD SO IT CAN BE SWALLOWED EAS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head-and-neck-glands"/>
          <p:cNvPicPr/>
          <p:nvPr/>
        </p:nvPicPr>
        <p:blipFill>
          <a:blip r:embed="rId1"/>
          <a:stretch/>
        </p:blipFill>
        <p:spPr>
          <a:xfrm>
            <a:off x="1371600" y="304920"/>
            <a:ext cx="72388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ALIVA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AN ENZYME CALLED SALIVARY AMYLASE, FORMERLY KNOWN AS PTYA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 SPEEDING UP A CHEMICAL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THE CHEMICAL BREAKDOWN OF CARBOHYDRATES OR STARCHES INTO SUGARS THAT CAN BE TAKEN INTO THE BO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HARYNX OR THRO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FOOD IS CHEWED AND MIXED WITH SALIVA, IT IS CALLED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OLU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 ENTERS THE PHARYNX OR THRO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BE THAT CARRIES BOTH AIR AND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 THE AIR TO THE TRACHEA OR WINDPI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HARYNX CARRIES FOOD TO THE ESOPHAGU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BOLUS IS SWALLOWED MUSCLE ACTION CAUSES THE EPIGLOTTIS TO CLOSE OVER THE LARYN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S BOLUS FROM ENTERING RESPIRATORY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epiglottis"/>
          <p:cNvPicPr/>
          <p:nvPr/>
        </p:nvPicPr>
        <p:blipFill>
          <a:blip r:embed="rId1"/>
          <a:stretch/>
        </p:blipFill>
        <p:spPr>
          <a:xfrm>
            <a:off x="1523880" y="762120"/>
            <a:ext cx="70866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-3052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ESOPHAGU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244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CULAR TUBE DORSAL TO THE TRACHEA OR WINDPI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S BOLUS FROM THE PHARYNX AND CARRIES IT TO THE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S ON A RHYTHMIC, WAVELIKE INVOLUNTARY MOVEMENT OF ITS MUSCLES,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ISTAL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O MOVE THE FOOD IN A FORWARD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ESTIVE SYSTEM IS RESPONSIBLE FOR THE PHYSICAL AND CHEMICAL BREAKDOWN OF FOOD SO IT CAN BE TAKEN INTO THE BLOOD STREAM AND USED BY BODY CELLS AND TISS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INCLUDES THE ALIMENTARY CANAL AND ACCESSORY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TOMACH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D PART OF THE ALIMENTARY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S THE FOOD FROM THE ESOPHAG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OUS MEMBRANE LINING CONTAINS FOLD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UG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DISAPPEAR AS THE STOMACH FILLS WITH AND EXP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19223"/>
          <p:cNvPicPr/>
          <p:nvPr/>
        </p:nvPicPr>
        <p:blipFill>
          <a:blip r:embed="rId1"/>
          <a:stretch/>
        </p:blipFill>
        <p:spPr>
          <a:xfrm>
            <a:off x="1295280" y="533520"/>
            <a:ext cx="7162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ARDIAC SPHINCTER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ULAR MUSCLE BETWEEN THE ESOPHAGUS AND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S AFTER FOOD ENTERS THE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S FOOD FROM GOING BACK UP INTO THE ESOPHAG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23500975"/>
          <p:cNvPicPr/>
          <p:nvPr/>
        </p:nvPicPr>
        <p:blipFill>
          <a:blip r:embed="rId1"/>
          <a:stretch/>
        </p:blipFill>
        <p:spPr>
          <a:xfrm>
            <a:off x="1371600" y="60948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YLORIC SPHINCTER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ULAR MUSCLE BETWEEN THE STOMACH AND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FOOD IN THE STOMACH UNTIL IT IS READY TO ENTER THE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USUALLY REMAINS IN THE STOMACH FOR ABOUT ONE TO FOUR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GASTRIC JUIC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GLANDS IN THE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FOOD INTO SEMIFLUID MATERIAL CALLED CHY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ICES CONTAIN HYDROCHLO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S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S IN THE ABSORPTION OF I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ES THE ENZYME PEP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Gastric Juice…does a body good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pic>
        <p:nvPicPr>
          <p:cNvPr id="180" name="Picture 5" descr="Leslie Irons drinking juice"/>
          <p:cNvPicPr/>
          <p:nvPr/>
        </p:nvPicPr>
        <p:blipFill>
          <a:blip r:embed="rId1"/>
          <a:stretch/>
        </p:blipFill>
        <p:spPr>
          <a:xfrm>
            <a:off x="1828800" y="1523880"/>
            <a:ext cx="61149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JUICES ALSO CONTAIN ENZYM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ASE, WHICH BEGINS THE CHEMICAL BREAKDOWN OF F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PSIN, WHICH STARTS PROTEIN DI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N INFANT, ENZYME RENNIN IS EXCR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IN THE DIGESTION OF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PRESENT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MALL INTESTIN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ILED SECTION OF THE ALIMENTARY CANAL  ABOUT TWENTY FEET LONG AND ONE INCH IN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S FOOD, IN FORM OF CHYME, FROM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ODE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JU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E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Gastro_Intest_call_300CMYK"/>
          <p:cNvPicPr/>
          <p:nvPr/>
        </p:nvPicPr>
        <p:blipFill>
          <a:blip r:embed="rId1"/>
          <a:stretch/>
        </p:blipFill>
        <p:spPr>
          <a:xfrm>
            <a:off x="1676520" y="304920"/>
            <a:ext cx="6172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ALIMENTARY CANAL</a:t>
            </a:r>
            <a:br>
              <a:rPr sz="4400"/>
            </a:b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MUSCULAR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AT THE MOUTH AND INCLUDES THE PHARYNX, ESOPHAGUS, STOMACH, SMALL INTESTINES AND LARGE INTES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DUODENUM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INE TO TEN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E FROM THE GALLBLADDER AND LIVER AND PANCREATIC JUICE FROM THE PANCREAS ENTER THIS SECTION THROUGH DUCTS OR TU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hdc_0001_0003_0_img0191"/>
          <p:cNvPicPr/>
          <p:nvPr/>
        </p:nvPicPr>
        <p:blipFill>
          <a:blip r:embed="rId1"/>
          <a:stretch/>
        </p:blipFill>
        <p:spPr>
          <a:xfrm>
            <a:off x="1523880" y="457200"/>
            <a:ext cx="68580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JEJUNUM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EIGHT FEET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THE MIDDLE SECTION OF THE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ILEUM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TWELVE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S WITH THE LARGE INTESTINE AT THE CE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ULAR MUSCLE CALLED THE ILEOCECAL VALVE SEPARATES THE ILEUM AND CECUM AND PREVENTS FROM RETURNING TO THE IL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FUNCTIONS OF THE SMALL INTESTIN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S THE PROCESS OF DI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BS THE PRODUCTS OF DIGESTION INTO THE BLOOD STREAM FOR USE BY BODY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INTESTINAL JUIC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THE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ENZYMES MALTASE, SUCRASE, AND LACTASE, WHICH BREAK DOWN SUGARS INTO SIMPLE 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ONTAIN ENZYMES KNOWN AS PEPTIDASES, WHICH COMPLETE THE DIGESTION OF 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BIL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 THAT ENTERS SMALL INTESTINE FROM LIVER AND GALL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ULSIFIES OR PHYSICALLY BREAKS DOWN F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8794"/>
          <p:cNvPicPr/>
          <p:nvPr/>
        </p:nvPicPr>
        <p:blipFill>
          <a:blip r:embed="rId1"/>
          <a:stretch/>
        </p:blipFill>
        <p:spPr>
          <a:xfrm>
            <a:off x="1295280" y="380880"/>
            <a:ext cx="708660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ANCREATIC JUIC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244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 THAT ENTERS SMALL INTESTINE FROM PANC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ENZYMES THAT COMPLETE THE PROCESS OF DI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CREATIC AMYLASE, WHICH ACTS ON SUG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PSIN AND CHYMOTRYPSIN, WHICH ACT ON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PASE, WHICH ACTS ON F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VILLI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GERLIKE PROJECTONS THAT LINE WALL OF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FOOD TO BE ABSORBED OR TAKEN INTO BLOOD 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BLOOD CAPILLARIES AND LACT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ACCESSORY ORGANS</a:t>
            </a:r>
            <a:br>
              <a:rPr sz="4400"/>
            </a:b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THE SALIVARY GLANDS, TONGUE, TEETH, LIVER, GALLBLADDER, AND PANC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Villi"/>
          <p:cNvPicPr/>
          <p:nvPr/>
        </p:nvPicPr>
        <p:blipFill>
          <a:blip r:embed="rId1"/>
          <a:stretch/>
        </p:blipFill>
        <p:spPr>
          <a:xfrm>
            <a:off x="1523880" y="762120"/>
            <a:ext cx="655344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VILLI CONTINUED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4568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CAPILLARIES ABSORB OR PICK UP THE DIGESTED NUTRIENTS AND CARRY THEM TO THE LIVER WHERE THEY ARE STORED OR RELEASED INTO GENERAL CIRCULATION FOR USE BY BODY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EALS PICK UP  MOST OF THE DIGESTED FATS AND CARRY THEM TO THE LYMPATHIC SYSTEM, WHICH RELEASES THEM INTO THE CIRCULATO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MALL INTESTINE OVERVIEW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FOOD HAS COMPLETED ITS PASSAGE THROUGH THE SMALL INTESTINE ONLY WASTES, INDIGESTIBLE MATERIALS AND EXCESS WATER RE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LARGE INTESTIN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SECTION OF THE ALIMENTARY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FIVE FEET LONG AND ABOUT TWO INCHES IN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Large intestine anatomy"/>
          <p:cNvPicPr/>
          <p:nvPr/>
        </p:nvPicPr>
        <p:blipFill>
          <a:blip r:embed="rId1"/>
          <a:stretch/>
        </p:blipFill>
        <p:spPr>
          <a:xfrm>
            <a:off x="1371600" y="380880"/>
            <a:ext cx="7238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-6094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24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PTION OF WATER AND ANY REMAINING NUTR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AGE OF INDIGESTIBLE MATERIALS BEFORE THEY ARE ELIMINATED FROM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FUNCTIONS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THESIS (FORMATION) AND ABSORPTION OF SOME B- COMPLEX VITAMINS AND VITAMIN K BY BACTERIA PRESENT IN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ATION OF THE WASTE PRODUCTS OUT OF THE ALIMENTARY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lab"/>
          <p:cNvPicPr/>
          <p:nvPr/>
        </p:nvPicPr>
        <p:blipFill>
          <a:blip r:embed="rId1"/>
          <a:stretch/>
        </p:blipFill>
        <p:spPr>
          <a:xfrm>
            <a:off x="5562720" y="228600"/>
            <a:ext cx="25146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ECTIONS OF LARGE INTESTIN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WITH THE ILEUM OF THE SMALL INTE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A SMALL PROJECTION CALLED THE VERMIFORM APPEND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OLON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CEND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LON CONTINUES UP ON THE RIGHT SIDE OF THE BODY FROM THE CECUM TO THE LOWER PART OF THE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ANSVER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LON EXTENDS ACROSS THE ABDOMEN, BELOW THE LIVER AND STOMACH, BUT ABOVE THE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OLON CONTINUED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SCEND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 EXTENDS DOWN THE LEFT SIDE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GMO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WITH DESCENDING CO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” SHAPED SECTION THAT JOINS WITH THE REC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18184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MOUTH OR ORAL CAVITY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S FOOD AS IT  ENTERS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S IN THE M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IS TA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KEN DOWN PHYSICALLY BY CHE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BRICATED AND PARTIALLY DIGESTED BY SAL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ALLO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24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RECTUM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244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SIX TO EIGHT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AGE AREA FOR THE INDIGESTIBLES OR WAS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NARROW CANAL CALLED THE ANAL CANAL, WHICH OPENS AT A HOLE CALLED THE AN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CAL MATERIAL OR STOOL, THE FINAL WASTE PRODUCT OF THE DIGESTIVE PROCESS, IS EXPELLED THROUGH THIS OP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LIVER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GLAND IN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ORY ORGAN FOR THE DIGESTIVE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UNDER THE DIAPHRAGM IN THE UPPER RIGHT QUADRANT OF THE ABD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liver-diagram"/>
          <p:cNvPicPr/>
          <p:nvPr/>
        </p:nvPicPr>
        <p:blipFill>
          <a:blip r:embed="rId1"/>
          <a:stretch/>
        </p:blipFill>
        <p:spPr>
          <a:xfrm>
            <a:off x="2590920" y="838080"/>
            <a:ext cx="4647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ES B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EMULSIFY OR PHYSICALLY BREAK UP F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MAKES FATS WATER SOLUBLE, WHICH IS NECESSARY FOR ABSOR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S SUGAR IN THE FORM OF GLYC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YCOGEN IS CONVERTED TO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ESED INTO THE BLOOD SYREAM WHEN ADDITIONAL BLOOD SUGAR IS NEE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FUNCTIONS CONTINUED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S IRON AND CERTAIN VITAM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HEPARIN, A SUBSTANCE THAT PREVENTS CLOTTING OF THE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BLOOD PROTEINS SUCH AS FIBRINOGEN AND PROTHROMBIN, WHICH AID IN CLOTTING OF THE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FUNCTIONS CONTINUED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OXIFIES (RENDERS LESS HARMFUL) SUBSTANCES SUCH AS ALCOHOL AND PESTICIDES, AND DESTROYS BACTERIA THAT HAVE BEEN TAKEN INTO THE BLOOD FROM THE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GALLBLADDER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MUSCULAR S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UNDER THE LIVER AND ATTACHED TO IT BY CONNECTIVE T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S AND CONCENTRATES BILE, WHICH IT RECEIVES FROM THE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8732"/>
          <p:cNvPicPr/>
          <p:nvPr/>
        </p:nvPicPr>
        <p:blipFill>
          <a:blip r:embed="rId1"/>
          <a:stretch/>
        </p:blipFill>
        <p:spPr>
          <a:xfrm>
            <a:off x="1600200" y="838080"/>
            <a:ext cx="6477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GALLBLADDER CONTINU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BILE IS NEEDED IN THE DIGESTIVE TRACT TO EMULSIFY FATS, IT CONTRACTS AND PUSHES THE BILE THROUGH THE COMMON BILE DUCT INTO THE DUODE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ANCREA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-SHAPED ORGAN LOCATED BEHIND THE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PANCREATIC JU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ICES ENTER DUODENUM THROUGH PANCREATIC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ENZYMES TO DIGEST FO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CREATIC AMYLASE TO BREAK DOWN FOOD SUG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PSIN AND CHYMOTRYPSINTO BREAK DOWN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PASE TO ACTON F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Sagittalmouth"/>
          <p:cNvPicPr/>
          <p:nvPr/>
        </p:nvPicPr>
        <p:blipFill>
          <a:blip r:embed="rId1"/>
          <a:stretch/>
        </p:blipFill>
        <p:spPr>
          <a:xfrm>
            <a:off x="2514600" y="380880"/>
            <a:ext cx="432108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pancreas"/>
          <p:cNvPicPr/>
          <p:nvPr/>
        </p:nvPicPr>
        <p:blipFill>
          <a:blip r:embed="rId1"/>
          <a:stretch/>
        </p:blipFill>
        <p:spPr>
          <a:xfrm>
            <a:off x="2171880" y="304920"/>
            <a:ext cx="4741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ANCREAS CONTINUED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NSU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D INTO THE BLOOD 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S THE METABOLISM OR BURNING OF CARBOHYDRATES TO CONVERT GLUCOSE (BLOOD SUGAR) TO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DISEASES OF THE DIGESTIVE SYSTEM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APPENDIC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INFLAMMATION OF THE APPENDIX USUALLY DUE TO AN OBSTRUCTION AND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1128"/>
          <p:cNvPicPr/>
          <p:nvPr/>
        </p:nvPicPr>
        <p:blipFill>
          <a:blip r:embed="rId1"/>
          <a:stretch/>
        </p:blipFill>
        <p:spPr>
          <a:xfrm>
            <a:off x="2057400" y="1143000"/>
            <a:ext cx="563868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IZED ABDOMINAL PAIN THAT LATER LOCALIZES AT THE LOWER RIGHT QUAD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&amp;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D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VATED W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HE APPENDIX RUPTURES?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CTIOUS MATERIAL SPILLS OUT INTO PERITONEAL CAVITY AND CAUSES PERITONITIS, A SERIOUS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NDEC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Appy12"/>
          <p:cNvPicPr/>
          <p:nvPr/>
        </p:nvPicPr>
        <p:blipFill>
          <a:blip r:embed="rId1"/>
          <a:stretch/>
        </p:blipFill>
        <p:spPr>
          <a:xfrm>
            <a:off x="2209680" y="268596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HOLECYST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OF THE GALL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LELITHIASIS: GALLSTONES FORM FROM CRYSTALIZED CHOLESTEROL, BILE SALTS, AND BILE PI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Cholelithiasis%20&amp;%20Chronic%20Cholecystitis"/>
          <p:cNvPicPr/>
          <p:nvPr/>
        </p:nvPicPr>
        <p:blipFill>
          <a:blip r:embed="rId1"/>
          <a:stretch/>
        </p:blipFill>
        <p:spPr>
          <a:xfrm>
            <a:off x="1371600" y="914400"/>
            <a:ext cx="71629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EETH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STRUCTURES IN THE M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DOWN FOOD PHYSICALLY BY CHEWING AND GRINDING THE FOOD, A PROCES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S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LY OCCUR AFTER EATING FATTY F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GESTION, N&amp;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UNDER RIB THAT RADIATES TO THE RIGHT SHOU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GALLSTONE BLOCK BILE DUCTS,GALLBLADDER CAN RUPTURE AND CAUSE PERITONIT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FAT DI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HOTRIPSY: SHOCK WAVES TO SHATTER GALL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LECYSTECTOMY: SURGICAL REMOVAL OF GALL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Lithotripsy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pic>
        <p:nvPicPr>
          <p:cNvPr id="263" name="Picture 6" descr="lithotripsy"/>
          <p:cNvPicPr/>
          <p:nvPr/>
        </p:nvPicPr>
        <p:blipFill>
          <a:blip r:embed="rId1"/>
          <a:stretch/>
        </p:blipFill>
        <p:spPr>
          <a:xfrm>
            <a:off x="1981080" y="1676520"/>
            <a:ext cx="5943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IRRHOS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DESTRUCTION OF LIVER CELLS ACCOMPANIED BY THE FORMATION OF FIBROUS CONNECTIVE AND SCAR T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: MALNUTRITION ASSOCIATED WITH ALCOLISM, HEPATITIS, BILE DUCT DISEASE, AND CHEMICAL TOX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liver%20cirrhosis"/>
          <p:cNvPicPr/>
          <p:nvPr/>
        </p:nvPicPr>
        <p:blipFill>
          <a:blip r:embed="rId1"/>
          <a:stretch/>
        </p:blipFill>
        <p:spPr>
          <a:xfrm>
            <a:off x="5257800" y="228600"/>
            <a:ext cx="24447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Y AND BECOME MORE SEVERE AS DISEASE PROGR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MENT OF THE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EMIA AND NOSEBL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GESTION, N&amp;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 CONTINUED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CITES OR AN ACCUMULATION OF FLUID IN ABDOMINAL PERITONEAL C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LIVER FUNCTION FAILS, DISORIENTATION, HALUCINATIONS, HEPATIC COMA, AND DEATH OCC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ED TOWARD PREVENTING FURTHER DAMAGE TO THE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ING ALCOHOL AND PREVENTING 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 NUTRITION AND VITAMIN SUPP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 AND APPROPIATE EXERCISE ARE ENCOURA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ONSTIPATION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 THAT OCCURS WHEN FECAL MATERIAL REMAINS IN THE COLON TOO LONG CAUSING EXCESSIVE REABSORPTION 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CES OR STOOL BECOME HARD, DRY, AND DIFFICULT TO ELI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image002"/>
          <p:cNvPicPr/>
          <p:nvPr/>
        </p:nvPicPr>
        <p:blipFill>
          <a:blip r:embed="rId1"/>
          <a:stretch/>
        </p:blipFill>
        <p:spPr>
          <a:xfrm>
            <a:off x="6172200" y="0"/>
            <a:ext cx="17445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BOWEL HA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USE OF LAXATIVES CAUSING A LAZY BOW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S LOW INFI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AIN DIGESTIVE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CORRECTED BY A DIET HIGH IN FIBER, ADEQUATE FLUIDS AND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IMES, LAXATIVES USED TO STIMULATE DEFE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18184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ONGU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CULAR O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SPECIAL RECEPTORS CALLED TASTE BUDS THAT ALLOW A PERSON TO TASTE SWEET, SALT, SOUR AND BITTER SENS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AIDS WITH CHEWING AND SWALLOWING OF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DIARRHEA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 CHARACTERIZED BY FREQUENT WATERY S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EMELY DANGEROUS IN INFANTS AND SMALL CHILDREN DUE TO THE EXCESSIVE LOSS OF FLU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ATED CO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SUB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" descr="diarrhea"/>
          <p:cNvPicPr/>
          <p:nvPr/>
        </p:nvPicPr>
        <p:blipFill>
          <a:blip r:embed="rId1"/>
          <a:stretch/>
        </p:blipFill>
        <p:spPr>
          <a:xfrm>
            <a:off x="6019920" y="1676520"/>
            <a:ext cx="291780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E THE 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DEQUATE FLUID INT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Y THE 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DIVERTICUL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OF DIVERTICULA, POUCHES OR SACS THAT FORM IN THE INTESTINE AS THE MUCOSAL LINING PUSHES THROUGH THE SURROUNDING MUS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diverticulitis-086101"/>
          <p:cNvPicPr/>
          <p:nvPr/>
        </p:nvPicPr>
        <p:blipFill>
          <a:blip r:embed="rId1"/>
          <a:stretch/>
        </p:blipFill>
        <p:spPr>
          <a:xfrm>
            <a:off x="1371600" y="1219320"/>
            <a:ext cx="693432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FECAL MATERIAL AND BACTERIA  BECOME TRAPPED IN DIVERTICULA, INFLAMMATION OCC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USE AN ABSCESS OR RUPTURE LEADING TO PERITON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Y DEPENDING ON THE AMOUNT OF INFLAM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MINAL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EGULAR BOWEL MOVEMENTS AND FL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IPATION OR 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MINAL DIS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GRADE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&amp;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BOTICS, STOOL SOFTNENING AND PAIN MED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ERY TO REMOVE THE AFFECTED SECTION OF CO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GASTROENTER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OF MUCOUS MEMBRANE LINING THE STOMACH AND INTEST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POI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tongue"/>
          <p:cNvPicPr/>
          <p:nvPr/>
        </p:nvPicPr>
        <p:blipFill>
          <a:blip r:embed="rId1"/>
          <a:stretch/>
        </p:blipFill>
        <p:spPr>
          <a:xfrm>
            <a:off x="2016000" y="228600"/>
            <a:ext cx="51739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MINAL CRAM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&amp;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REST AND INCREASED FLUID INT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EVERE CASES, ANTIBOTICS, IV FLUIDS, AND MEDICATIONS TO SLOW PERISTALSIS MAY BE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EMORRHOID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FUL, DILATED OR VARICOSE VEINS OF RECTUM AND/OR  AN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NING TO DEFECATE OR CONST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SURE DURING PRE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FLUID INT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USE OF LAX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SITTING OR ST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FIBER DIET AND INCREASED FLUID INT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OL SOF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Z BATH OR WARM MOIST COMPR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RRHOIDECTOMY IN SEVERE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EPAT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AL INFLAMMATION OF THE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 OR INFECTIOUS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CONTAG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TTED IN FOOD OR WATER THAT HAS BEEN CONTAMINATED BY THE FECES OF AN INFECTED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B OR SERUM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TTED BY BLOOD AND SE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ERIOUS THAN TYPE A AND CAN LEAD TO CHRONIC HEPATITIS OR CIRRHOSIS OF THE 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, ANOREXIA, AND N&amp;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IQUE, DARK COLOR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Y-COLORED S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D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 HIGH IN PROTEIN AND CALORIES AND LOW IN F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ERNIA OR RUPTUR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RS WHEN AN INTERNAL ORGAN PUSHES THROUGH A WEAKENED AREA OR NATURAL OPENING IN A BODY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0T19:38:05Z</dcterms:created>
  <dc:creator>HOC</dc:creator>
  <dc:description/>
  <dc:language>en-US</dc:language>
  <cp:lastModifiedBy>Krista</cp:lastModifiedBy>
  <cp:lastPrinted>1999-04-16T18:48:39Z</cp:lastPrinted>
  <dcterms:modified xsi:type="dcterms:W3CDTF">2011-03-29T04:58:32Z</dcterms:modified>
  <cp:revision>53</cp:revision>
  <dc:subject/>
  <dc:title>DIGESTIVE SYSTEM</dc:title>
</cp:coreProperties>
</file>